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43CBA-ADEC-4FE1-9CE3-89034395A3B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69BA-5607-4AAE-AE6D-61D3FA3A6B3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62964-1958-4624-BDB2-9EB1CFF125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1046-BCB0-495B-B9BD-CFBAB585DB0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2266D-AC86-415D-9405-DEB4A93D06E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65C8E-1D17-4E01-A9E5-0AE6BFDD2DE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22D8-A705-42B8-9F5F-DF7CFFD5A12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2722-1779-47AC-9942-7E9A3CC88D0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A61A2-A283-47B6-B959-D29C4332728C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E269-0787-4D85-ABF3-FC96EE22759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F5C45-1F3F-4C2E-AB34-C3421D8E7C2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31DE-FEF8-4BAB-98A4-8E8229D5A23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（四）心理社会状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08747-2CBE-4EFC-81DF-39F51ED3B833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43F18-3B65-42E9-8F5F-C669BA74D5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1AAD9-CCEF-4A42-82F2-047AE8A2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E4493-407F-4776-B099-A05E2638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B712A-E8F9-4A6D-A68D-2B32C346C7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6304A-C195-4871-BC6D-37A989131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81F90-D392-448C-9CCC-BB2DB4DE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94AE1-DF35-4468-81CB-07DAD5F4E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6D7D6-6A45-4032-B538-2D4592996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A00C6-8168-4392-BA8A-F1D3B6116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8A61A-81AD-4BF6-B666-DC670480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D5CA6-ED3B-4A27-8612-29AB5DD65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B6C9C5-1726-4A76-B095-F6C09E01A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DEF6A-E50B-4AC9-B0C2-F1214C13E07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八章 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食管癌患者的护理 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结肠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姑息性减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5561640" y="5373720"/>
            <a:ext cx="27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2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横结肠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16" descr="图片2"/>
          <p:cNvPicPr/>
          <p:nvPr/>
        </p:nvPicPr>
        <p:blipFill>
          <a:blip r:embed="rId1"/>
          <a:stretch/>
        </p:blipFill>
        <p:spPr>
          <a:xfrm>
            <a:off x="4572000" y="1989000"/>
            <a:ext cx="42991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食管癌，给予营养支持，放射治疗。身体耐受程度良好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后行食管癌切除后胃代食管术。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 与肿瘤消耗、饮食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 与吞咽困难、水分摄入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与呼吸道分泌物较多、手术后疼痛不敢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 出血、肺不张、肺炎、乳糜胸、吻合口瘘、吻合口狭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准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减压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管的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经常观察胸管引流是否通畅负压波动是否明显，并定时做管外挤压，若波动消失，引流量骤减，则有胸管堵塞的可能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引流液的颜色、量及性质并记录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4h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引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对胸液性质的观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吻合口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糜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疾病预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活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定期复查，坚持后续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 不明，相关因素有生活习惯、饮食因素、遗传因素、疾病因素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 早期主要特征性症状为哽噎感、异物感、胸骨后烧灼样、针刺样或牵拉摩擦样疼痛。晚期主要特征性症状为进行性吞咽困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 以手术治疗为主，辅以化疗、放疗等综合治疗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 术前应关注患者的心理反应，做好呼吸道与肠道准备；术后注意观察伤口及引流情况，及时发现出血、吻合口瘘、乳糜胸等并发症。另外，应教会健康群众以及患者食管癌自我检查的简单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食管癌发病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食管癌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食管癌不同手术方式的特点及可能出现的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食管癌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进行性吞咽困难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以食管癌收人院，经充分的术前准备，行食管部分切除、食管胃吻合术，术后留置胃肠减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术后留置胃肠减压的目的是什么？如何护理？ 如何做好术后患者的饮食指导？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食管术后放置胃肠减压的目的是：抽出胃肠道内积聚的大量气体和液体，有利于胃肠功能的恢复，有利于吻合口愈合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措施：①术后需持续行胃肠减压，及时抽出胃内液体及气体，保持胃处于空虚状态，以减少胃与食管吻合口的张力，促进伤口愈合，并可防止胃过度扩张压迫肺，影响呼吸功能，②保持胃肠减压管通畅，密切观察胃液的量、颜色及性质并准确记录，如引出大量血液应立即报告医生处理。③胃肠减压管应保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以减少吻合口张力，以利愈合。④注意胃管连接准确，固定牢靠，防止脱出，一旦脱出后不可再插入，以免戳穿吻合口，造成吻合口瘘。⑤待肛门排气、胃肠减压引流量减少后拔出胃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饮食护理：①禁饮禁食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，持续胃肠减压，注意经静脉补充营养。②停胃肠减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若无吻合口瘘的症状，可开始进食。应先饮少量水，若无不适，给予高热量、高蛋白、高维生素易消化的流食，避免患者进食生、冷、硬食物，以防后期吻合口瘘。③逐渐减少静脉输液量，并嘱咐患者进食后不要平卧，保持半坐卧位，以防发生倒流及反流性食管炎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术后若无并发症，一般进流食的时间在                      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肠蠕动恢复，肛门排气后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疼痛消失，体温正常后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伤口拆线后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首选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射疗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学疗法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综合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患者的典型症状是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食时哽噎感    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烧灼样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内异物感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骨后针刺样不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进行性吞咽困难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食管癌好发部位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管食管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上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部食管中段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食管下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部食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食管癌最好的诊断方法是 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食管拉网细胞学检查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钡餐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镜检查治疗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颈淋巴结活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 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A    2.A    3.E    4.C    5.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食管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sophageal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消化系统常见的恶性肿瘤之一。据估计全世界每年大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死于食管癌，我国约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万人。男性多见，好发年龄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在无明显诱因下出现进食硬质食物时有哽噎感。稍休息或饮水后缓解，未予重视。后症状持续存在并呈进行性加重，遂到医院就诊。食管镜检查示：食管中下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腔狭窄，黏膜中断，病理报告为鳞癌Ⅱ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护理评估主要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表现为食物停滞感或异物感、哽噎感、胸骨后灼烧样、针刺样或牵拉摩擦样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钡餐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内镜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食管拉网脱落细胞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核素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八章 食管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内镜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代食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4572000" y="1776240"/>
            <a:ext cx="4248000" cy="3227400"/>
          </a:xfrm>
          <a:prstGeom prst="rect">
            <a:avLst/>
          </a:prstGeom>
          <a:ln w="0">
            <a:noFill/>
          </a:ln>
        </p:spPr>
      </p:pic>
      <p:sp>
        <p:nvSpPr>
          <p:cNvPr id="137" name="矩形 4"/>
          <p:cNvSpPr/>
          <p:nvPr/>
        </p:nvSpPr>
        <p:spPr>
          <a:xfrm>
            <a:off x="5468040" y="537372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8-1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食管癌切除后胃代食管术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13:23Z</dcterms:modified>
  <cp:revision>86</cp:revision>
  <dc:subject/>
  <dc:title>内科护理学</dc:title>
</cp:coreProperties>
</file>